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2D7-E372-4549-980C-8779DF1D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3E4-1628-45A4-AF4B-6F1C3A6D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D9A-FB1B-4282-BE44-CBEE75A3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613-9806-4857-A28A-58094208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501-E559-4529-AED8-19A20090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A44-239B-4E7D-8EF2-2094EA48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F02-49FB-423B-89B7-E3D3F0E8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4EA-4EF5-4B2C-A7E5-74825CD3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A71-56C1-4164-9C65-279DE468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DA3-0A3A-4272-8FE1-08DC2AAE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E69-5765-404F-8D58-DD20D42A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60D-C8C3-4E35-AB77-8F9360B4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5BA3-F057-453F-85D7-8745502A1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SPESIFIKASI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AT DETEKSI RISIKO IBU HAM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SIFIKASI ALAT RAPID TEST (HB SAHLI) PELAYANAN ANTENATAL YANG DIBUTUHK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at Gluko-Protein Ur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parameter meliputi Ph, glucose, dan prote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ali pemeriksaa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Kehami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ntuk carik cel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ip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olongan Dara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Reagen Anti A, B, AB, dan Rh 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 golongan Darah sebanyak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Hb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ode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Sahl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ge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erupa HCl 0,1N sebanyak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utoclick devi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Stainless Stee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arum lancet (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4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biji) (disesuaikan dengan sasaran ibu hamil di desa dalam 1 tahun dimana masing-masing ibu hamil diperiksa 2 kali selama kehamilan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.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uku Petunjuk Teknis Penggunaan Alat Rapid Tes Pelayanan Antenatal bagi Bid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2:20:18Z</dcterms:created>
  <dc:creator>User</dc:creator>
  <dc:description/>
  <dc:language>en-US</dc:language>
  <cp:lastModifiedBy>LENOVO</cp:lastModifiedBy>
  <dcterms:modified xsi:type="dcterms:W3CDTF">2015-02-16T03:20:01Z</dcterms:modified>
  <cp:revision>28</cp:revision>
  <dc:subject/>
  <dc:title>DAFTAR KEBUTUHAN RAPID TES PELAYANAN ANTENATAL TAHUN 2015 (VERSI 65 M)</dc:title>
</cp:coreProperties>
</file>